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90E-B959-4530-AE60-0DEB1E6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272-4061-46FA-920C-3A28277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070-B34C-4711-A6B6-39D21773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2F7-6633-4444-B673-D90751BE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98A-888A-404C-AF54-B3BE2B6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BB9-50C8-4F19-8047-5FA67E8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376-6110-4845-9C35-3C68669C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5C0-5BDE-45E2-98D6-FA4D4893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BB6-6C08-4147-89B9-085935F2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9F4-ED30-4F27-9F79-5526ADD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E87-2E0A-4F37-BB78-4B67F39E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5C8-95AC-4919-876F-C4C9338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EBD-55D1-41CF-B12C-F65D6CDC1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bcPhonicsOne"/>
              </a:rPr>
              <a:t>Embedded Podcast Audio Into a PowerPoin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udacity File-Export as WA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enu icon at the top of the file-select details…determine WAV fi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PowerPoin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ools-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Link Sound File so it is larger than the WAV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Sound from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YES to pla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002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7:57:13Z</dcterms:created>
  <dc:creator>umsd</dc:creator>
  <dc:description/>
  <dc:language>en-US</dc:language>
  <cp:lastModifiedBy>umsd</cp:lastModifiedBy>
  <dcterms:modified xsi:type="dcterms:W3CDTF">2009-01-24T20:02:46Z</dcterms:modified>
  <cp:revision>3</cp:revision>
  <dc:subject/>
  <dc:title>Embedded Podcast Audio Into a PowerPoint Presentation</dc:title>
</cp:coreProperties>
</file>